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D289-43AE-4CA0-B3C0-F262B0236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151C-C10A-4D86-9FD4-87C3C317F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51B0-21F6-48FE-8063-89CFE534E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05E8-083A-42A7-AB90-1CA99F74B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C5EC-4843-4714-8326-4E2AF2F53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A0C3-6DC3-416C-8555-16BC4D995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98E6-6DC8-4379-A24E-AECCF987F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6372-7DD8-4389-84D1-356BCAFF2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3862-C999-4774-BC0F-674ECE576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C3A0-4316-4BE6-A11C-0C667A0DA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8428-5232-42A2-9FD1-D58205D98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8392-7383-45EA-967C-EE18C4787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E6208-32BA-488E-BFCC-9D944E28251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 гостях у волшебн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БРО ПОЖАЛОВА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РУГОГО НИЧЕГО В ПРИРОДЕ 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И ЗДЕСЬ, НИ ТАМ В КОСМИЧЕСКИХ ГЛУБИНАХ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Ё - ОТ ПЕСЧИНОК МАЛЫХ – ДО ПЛА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 ЭЛЕМЕНТОВ СОСТОИТ ЕДИНЫХ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ФОРМУЛА, КАК ГРАФИК ТРУДОВОЙ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ОЙ МЕНДЕЛЕЕВСКОЙ СИСТЕМЫ СТРОГОЙ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КРУГ ТЕБЯ ТВОРИТСЯ МИР ЖИВО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ХОДИ В НЕГО, ВДЫХАЙ, РУКАМИ ТРОГА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6743160"/>
            <a:chOff x="0" y="0"/>
            <a:chExt cx="9144000" cy="6743160"/>
          </a:xfrm>
        </p:grpSpPr>
        <p:pic>
          <p:nvPicPr>
            <p:cNvPr id="45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25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1322640" y="6344280"/>
              <a:ext cx="6508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Макет химической лаборатории М.В.Ломоносова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гад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суку сидит с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дыхает СО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апоги мои то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пускают Н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гад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Cl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его все знают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магазине покупаю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з него не сваришь ужин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малых дозах в блюдах нуже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гад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лакон с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MnO4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обычно имеется в каждой квартир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 рожденья ребёнок любой с ним знак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два лишь покинет он с мамой родд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го искупают в ванночке с н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едь он для дезинфекции незамени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гад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 за чудо посмотри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т СаСО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 доске он проезжает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 собой след оставля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ли нет у вас для тес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рыхлителя, вы вместо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HCO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ложите в пирог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ереведите с химического языка на общепринят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 всё то аурум, что блест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лый, как карбонат кальц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уй феррум, пока горяч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лово – аргентум, а молчание – ауру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упрумного гроша не сто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ойкий станумный солдати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яжёлые плюмбумные туч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4T08:20:20Z</dcterms:created>
  <dc:creator>евросеть</dc:creator>
  <dc:description/>
  <dc:language>en-US</dc:language>
  <cp:lastModifiedBy>PC</cp:lastModifiedBy>
  <dcterms:modified xsi:type="dcterms:W3CDTF">2022-10-30T17:02:13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