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2B3-789B-4C59-99D9-11F08000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31D-16D4-4ED9-8EFB-0AE4DCD8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89C-542B-46F9-91FE-3EE91B6C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391-DE0D-4420-BF54-DD7F4A74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6F8-423F-465E-9FA6-80D40885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9B9-BC56-4EAC-A077-CBC969C9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F9F-F00B-4FF4-9659-E10E322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46A-08A9-4D5B-82E9-70D7B0BD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741-E159-45BE-A786-AFE419B8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F57-C597-4C81-ACD7-5395070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5C7-FDAB-4191-97C3-0D5D8C53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770-0A88-46B0-8E94-143D13B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7AE1-29B2-4802-AF69-497540520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ях у волш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ПОЖАЛ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ИЧЕГО В ПРИРОДЕ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ЗДЕСЬ, НИ ТАМ В КОСМИЧЕСКИХ ГЛУБИН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- ОТ ПЕСЧИНОК МАЛЫХ – ДО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ЛЕМЕНТОВ СОСТОИТ ЕДИ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ОРМУЛА, КАК ГРАФИК ТРУДОВ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 МЕНДЕЛЕЕВСКОЙ СИСТЕМЫ СТРОГ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ЕБЯ ТВОРИТСЯ МИР ЖИ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И В НЕГО, ВДЫХАЙ, РУКАМИ ТРО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43160"/>
            <a:chOff x="0" y="0"/>
            <a:chExt cx="9144000" cy="67431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2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22640" y="6344280"/>
              <a:ext cx="65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акет химической лаборатории М.В.Ломонос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уку сидит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ыхает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поги мои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ют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го все зн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покуп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его не сваришь ужи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лых дозах в блюдах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кон с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ычно имеется в каждой кварт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ожденья ребёнок любой с ним зн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лишь покинет он с мамой род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искупают в ванночк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он для дезинфекции незаме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 чудо посмотр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аСО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оске он проезж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обой след 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т у вас для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я, вы вмест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 в пи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едите с химического языка на общеприня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аурум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, как карбонат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й феррум, пока горя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– аргентум, а молчание – аур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прумного гроша не 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ий станумный солда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ёлые плюмбумн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08:20:20Z</dcterms:created>
  <dc:creator>евросеть</dc:creator>
  <dc:description/>
  <dc:language>en-US</dc:language>
  <cp:lastModifiedBy>PC</cp:lastModifiedBy>
  <dcterms:modified xsi:type="dcterms:W3CDTF">2022-10-30T17:02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