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0D4-6D8E-47B8-AAA9-FFCBD213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C50-F2DC-4A40-B3E5-9B17ADA8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D3F-5E01-4FEC-85AE-31E03768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4D6-E9EC-48F4-A6C1-7347BADD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623-8156-479D-8974-899D8F08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1C3-08B7-40E9-8F0A-C68B3B3A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22C-26F6-476B-A951-0846FDBD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0B3-4285-4C7B-9F33-47651EBD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6F2-89AE-4052-89D1-BC1F903A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11C-A24E-41DA-B65F-17A88F0C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EB4-C481-432E-A37C-7E95CBE1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EA3-17A5-44B1-850E-E82209D0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A6C2-10AC-4629-89A2-9DC23CFD7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гостях у волш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ПОЖАЛ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ГО НИЧЕГО В ПРИРОДЕ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ЗДЕСЬ, НИ ТАМ В КОСМИЧЕСКИХ ГЛУБИН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- ОТ ПЕСЧИНОК МАЛЫХ – ДО ПЛА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ЭЛЕМЕНТОВ СОСТОИТ ЕДИ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ФОРМУЛА, КАК ГРАФИК ТРУДОВ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 МЕНДЕЛЕЕВСКОЙ СИСТЕМЫ СТРОГ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КРУГ ТЕБЯ ТВОРИТСЯ МИР ЖИ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И В НЕГО, ВДЫХАЙ, РУКАМИ ТРО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43160"/>
            <a:chOff x="0" y="0"/>
            <a:chExt cx="9144000" cy="67431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25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22640" y="6344280"/>
              <a:ext cx="650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акет химической лаборатории М.В.Ломоносо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уку сидит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ыхает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поги мои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ют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его все зн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газине покуп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него не сваришь ужин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лых дозах в блюдах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кон с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ычно имеется в каждой кварт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рожденья ребёнок любой с ним зна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ва лишь покинет он с мамой род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искупают в ванночке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он для дезинфекции незаме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а чудо посмотр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аСО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оске он проезж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обой след оставл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т у вас для т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я, вы вмест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е в пи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едите с химического языка на общеприня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ё то аурум, что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, как карбонат каль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й феррум, пока горяч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– аргентум, а молчание – аур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прумного гроша не 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йкий станумный солда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ёлые плюмбумные т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08:20:20Z</dcterms:created>
  <dc:creator>евросеть</dc:creator>
  <dc:description/>
  <dc:language>en-US</dc:language>
  <cp:lastModifiedBy>PC</cp:lastModifiedBy>
  <dcterms:modified xsi:type="dcterms:W3CDTF">2022-10-30T17:02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