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E86-D5EC-4620-8D19-73BA9259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E4D-F6BD-412F-9532-13D2DDF5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8B9D-01BA-44D8-90A2-62C8C3E5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1FA5-1015-409D-9E80-FA3FA90E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C6C5-04CD-4758-9E00-BE39FCEE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AE6-A009-426D-A572-9A90D43C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542-4BE0-4EEA-A8BA-42671234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26A9-9F20-4E6A-AE78-7A807508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D94-69E6-46CD-8594-8C353425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EFC2-1FCB-4CFA-B32E-1D92548E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9A9D-9E41-4940-9703-C5649151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A87-2BFF-4EE5-A630-86042C89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C072-0FAE-463D-BCA7-1DC2816176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гостях у волшеб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 ПОЖАЛО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ОГО НИЧЕГО В ПРИРОДЕ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ЗДЕСЬ, НИ ТАМ В КОСМИЧЕСКИХ ГЛУБИНА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Ё - ОТ ПЕСЧИНОК МАЛЫХ – ДО ПЛА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ЭЛЕМЕНТОВ СОСТОИТ ЕДИН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ФОРМУЛА, КАК ГРАФИК ТРУДОВ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Й МЕНДЕЛЕЕВСКОЙ СИСТЕМЫ СТРОГ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КРУГ ТЕБЯ ТВОРИТСЯ МИР ЖИВ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ХОДИ В НЕГО, ВДЫХАЙ, РУКАМИ ТРОГ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43160"/>
            <a:chOff x="0" y="0"/>
            <a:chExt cx="9144000" cy="674316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25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22640" y="6344280"/>
              <a:ext cx="650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Макет химической лаборатории М.В.Ломоносов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уку сидит 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ыхает 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поги мои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ускают 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его все знаю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газине покуп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него не сваришь ужин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лых дозах в блюдах ну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лакон с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ычно имеется в каждой кварт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рожденья ребёнок любой с ним зна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ва лишь покинет он с мамой род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искупают в ванночке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 он для дезинфекции незамен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а чудо посмотр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аСО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доске он проезж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собой след оставля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ет у вас для т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ителя, вы вместо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HCO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ите в пир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ведите с химического языка на общеприня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ё то аурум, что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ый, как карбонат каль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й феррум, пока горяч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– аргентум, а молчание – аур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прумного гроша не сто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йкий станумный солдат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жёлые плюмбумные ту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4T08:20:20Z</dcterms:created>
  <dc:creator>евросеть</dc:creator>
  <dc:description/>
  <dc:language>en-US</dc:language>
  <cp:lastModifiedBy>PC</cp:lastModifiedBy>
  <dcterms:modified xsi:type="dcterms:W3CDTF">2022-10-30T17:02:1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